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EE4-AE05-48E9-8F5D-8E464454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156-1781-42B6-899B-6D25B58B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378-5607-462E-9F6A-448644F8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315-F76F-40F8-8E35-5398871F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04FD-7A3E-4994-B6E5-D64C4727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5950-FFE9-4A79-9B4E-48ADB2A7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906E-F645-4575-9E45-39AAC04D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398A-5A1E-48FD-B046-35094001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50FB-4C72-4B15-8DC0-626BD7B6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0CC7-CD0B-49B2-924C-33DD95B1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8107-31C3-4416-B8B4-2CE073D2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EA8-99EF-493D-82BD-E581CEE1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D258-6552-49C5-800D-4046689D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800B-007C-40E2-80DA-6C497DFA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3F26-DA60-4234-9B51-09529E1A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60E2-E04E-4D4E-B767-BA3D7115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B04F-BD2C-481B-9B74-466898B1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9A2-A7A9-45E3-9F9B-6699FF4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E68-96E3-4E08-8C49-BEDFAF31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624-3B21-4866-AD29-22C96C1E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759-4F10-4D8D-8556-DCCF2383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8E7-DB07-4142-AE29-EC3CD14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00C-B2C2-4824-8049-8369F7F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0C9-1092-457C-AA79-EF386F82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3517-57A9-4D34-A6D1-F63F3558A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845-A5B6-4620-9397-F43BBBA92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838080"/>
            <a:ext cx="2741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erlin Sans FB"/>
              </a:rPr>
              <a:t>Curiosity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981080"/>
            <a:ext cx="5181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Curiosity must be kept alive. One must never, for whatever reason, turn his back on life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-Eleanor Roosevel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0006-IMG_6759ed11x14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4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oton Area School District</cp:lastModifiedBy>
  <dcterms:modified xsi:type="dcterms:W3CDTF">2010-05-04T16:19:26Z</dcterms:modified>
  <cp:revision>1</cp:revision>
  <dc:subject/>
  <dc:title>PowerPoint Presentation</dc:title>
</cp:coreProperties>
</file>